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wmf" ContentType="image/x-wmf"/>
  <Override PartName="/ppt/media/image6.wmf" ContentType="image/x-wmf"/>
  <Override PartName="/ppt/media/image19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7.png" ContentType="image/png"/>
  <Override PartName="/ppt/media/image24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8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25.jpeg" ContentType="image/jpeg"/>
  <Override PartName="/ppt/media/image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CA55-25E9-43E7-881C-531D9A8C55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8B32-6A5D-448C-A189-37560744B772}" type="slidenum">
              <a:rPr b="0" i="1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9F1B-BA11-4D57-A2A5-7311F2A22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2864-F8DA-4413-AF0D-825F877C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8907B-DB16-462C-A6D9-F088299F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7AACD-7FCD-42AD-97AA-72264884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3739A-1851-4A8E-947C-2F77FDDA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F9A50-61D8-4CAC-9755-8CCD16F8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5851B-8A0C-451A-AB9F-8356C1B1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1ADD0-33AE-4FB3-B7C6-067B5459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8B853-2DC9-4749-90ED-2E9E3A0F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719BD-2E3A-46A2-820F-E9C8314FE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88D36-EAAE-4A7B-A18B-436532A99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39C74-1273-4AB6-8943-296724F54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927A-0AA6-4C38-B775-DCFB829CD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F8B59-2E81-486D-A91F-6BF85A5F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6B0C66-9262-4896-B4A7-18CA9E6D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9545B-D02E-4AB6-AE47-4FA6F4DD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86DA0-944D-499A-8392-E3B16393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FF395-5E21-4564-8C0B-FB54DEEC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DBB81-CDEA-45B4-BA41-8A800D8C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E8340-81BE-4938-946D-A5A1BD5D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EB6DB-49BE-40B1-B04B-51E4E164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6E07F-6869-4863-800D-039D9A33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8F5525-1C52-4916-94DE-BC75EECAE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76AC-9704-446E-B287-AA47B5C73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E3843F-3A0F-4783-8FA9-E0337562E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5F3CE5-3E4E-4645-BEDE-13A916ECE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B3CEE4-DABA-417F-B4D0-D4E3DDE4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B9FD9F-2347-4BD0-A88B-02951146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48C789-8BEB-4051-B657-2AD2C5CD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BEEBF7-27D6-4C38-89E5-9A3BCCFD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10183-6699-4F21-8751-BC4B44AD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E2B3DA-85AE-4E84-8C31-27AEF9F9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A3457-475D-4553-BB2B-F93A6262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8CE7B-00F8-465D-91DA-BCAF22D7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ED79D3-3703-465E-AB4E-D620D7BF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B0B780-2D41-4772-8BB2-C0E5F5642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05D3B-6EC7-4714-A9CA-6927AD523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3009-FEEE-41DB-B076-37E74BF8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47AF-9608-46C9-B3C1-335465F6C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3EC5-EBF2-459F-B326-CFC07126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205F-6F19-4FC5-8EE7-B8B17DD3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8C1E-CD3D-4AE7-B453-0C39694B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E076-59B4-4C72-844C-3265A0EF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2941-67D7-4FCE-9009-377FD9EB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6D5C-F614-49C8-8220-B2FD6CDC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04E7-10C4-4704-A780-FAEB7AC5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C64B-B9B9-4679-8C0D-7856EFE6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0E562-330A-4AC6-AAC7-24281E7D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E4AB-AFFD-468B-A697-CCC31783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3E1A-213D-495F-819D-DE2EEBAD7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6908-706E-4484-A9B5-64DA0621D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F2316-7902-4AE2-BA6A-9BA41D8E3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7BD97-91E9-4CBC-A4F4-4DA5FD4F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FBC63-ED5F-4430-AF11-AF52C905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4842-F43A-495D-8865-EE6409D4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9E2C0-F09E-415F-9243-D7CD37FD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3229C-7BB2-4D84-A112-1329D360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862A5-CA19-48B2-A6EA-6CD25A81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E4768-B567-4DBE-87F9-26414D13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4188E-19A2-4ACA-A431-3B3304F1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21770-F43E-4176-A047-71A56D89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234E6-80BE-40F9-8CFE-0CC28A39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63CA8-0A61-4ECE-8BD0-3C8ED1E4A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98680-2855-4B0D-83B5-80FFDCE05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2035E-FB74-4608-908D-0919C4591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7231-E1A9-4156-A5CF-9908281A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6BCF4-56A4-4C02-BEFA-81D5E84A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24266-E653-40BE-AA7E-808E73C1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1BEC0-CEEA-4D8C-B6A0-48DD45F1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3F782-AFD4-44ED-8067-D59644CA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22C5C-1746-48EB-BD17-A81433F7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99B3E-3CCC-444B-A263-93FD27CF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CABFC-F4DB-4BD0-8D73-C062678B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DC7C8-2C38-4388-9F51-CB660234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FB783-0240-4073-96D4-A0D81DDD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3E284-871E-408E-AD3D-E4A9ED899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7DFE-050B-417C-A336-3C634D25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5BD8D-B9A3-4559-BA11-764467A1C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3D76D-79A8-4052-B28F-4283C95C1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5770C-0C2D-444F-9BED-92EC0DDA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E0A0A-66CF-4A50-8021-56AA3A05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B3E27-5E98-48F4-BC83-609197AA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0592B-47D9-4EA2-96F1-656F3E6F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C69E3-EEEB-4906-B5A7-3E9BEAC1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157C3-C17D-449C-93D3-CE3EB88A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CAAAC-A375-4D4D-A47E-4C61D7C8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0442A-69D3-4F64-9201-FDABA6E3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4A62-EAEE-4470-B7D5-B42240F8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A759D-50B2-4737-BDE2-11759A2C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A3D64-9899-40F9-9B33-CC2582A7A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46220-F043-4E32-8EEB-180DCFFBE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953B1-19DE-4571-845B-626905D3F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EB985-32D4-4792-9478-C8306C03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9C366-BA1B-41F9-9CC9-F33759BC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BBA23-09F6-44E3-87A6-70642A86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9F0B9-F16B-42DF-8E3F-03F810D1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C6ED6-5795-46A1-81C7-80FA9D9F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F9865-D87B-44B9-939B-01426BCF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59D2-8048-4EA0-9FC4-3C6A7409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87643-7F3F-45BC-940C-92AFC9F5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3EDF9-0B06-4FF9-8E00-C7B70BA4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B0BEB-CAC6-4DD7-851B-4425282C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D0401-7D52-4239-95DF-7720E459A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A414D-33B8-4CF7-9360-B611C1A73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EB511-9B5A-4698-92D0-B9EE2E8AF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B0356-C92C-4063-8046-DE613A14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15831-3CBF-48E3-8D76-E9F96004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47C86-0998-4B84-B685-990512FF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CBBE6-8A66-4628-9E1B-2C42BD78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801D-7F01-4229-B674-9D89C3C8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FA5F5-FD79-44A4-B909-79A7D2A5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AA796-93B2-4878-B9E0-D852E4FC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F7D3B-2CB2-41D2-9866-BA580C51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9CD80-6801-4BB2-A161-5D120A90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87C0F-8EF3-4433-850A-7E2790B1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729AB-6EBF-4D97-9581-C2B077C47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6AEC9-40B3-4EF9-BFF0-D50BD5C0E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2CC45-F359-48B9-A1D2-BDFEC2D9E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2E5B4-3A86-47E6-B438-A1E7B5B1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2AD88-3246-4BBA-836C-E77F4998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F920-9D32-4807-B4DF-9CB918CF20CE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5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5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45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E806-6EA6-4474-ABEB-E8C04C339390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0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0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0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50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0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FFCA-4F1E-4278-9ADB-431A156479FD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9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0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10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2533-7ACD-403A-95EA-96A1F226C29B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4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0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15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CCD5-8F48-46E8-9943-4E7EA5576660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9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0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20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AC6E-E021-4638-9C5C-BFF77C205F66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4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0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5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25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4A42-3D14-435A-89A3-E712EF25D96A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9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0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0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30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8C53-7B1A-4B43-89D7-DAA207923E1A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4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0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5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35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19BA-8D0C-4B08-9862-AAAD108F914F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9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0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0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  <p:grpSp>
          <p:nvGrpSpPr>
            <p:cNvPr id="40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406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7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8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9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24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7FCA-4F0D-4142-BFAE-D0AF2DB5A0A1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Box 3"/>
          <p:cNvSpPr/>
          <p:nvPr/>
        </p:nvSpPr>
        <p:spPr>
          <a:xfrm>
            <a:off x="1857240" y="150012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Black"/>
              </a:rPr>
              <a:t>Картинка улыбки</a:t>
            </a: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9" name="AutoShape 4"/>
          <p:cNvSpPr/>
          <p:nvPr/>
        </p:nvSpPr>
        <p:spPr>
          <a:xfrm>
            <a:off x="1681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0" name="AutoShape 8"/>
          <p:cNvSpPr/>
          <p:nvPr/>
        </p:nvSpPr>
        <p:spPr>
          <a:xfrm>
            <a:off x="1681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1" name="AutoShape 10"/>
          <p:cNvSpPr/>
          <p:nvPr/>
        </p:nvSpPr>
        <p:spPr>
          <a:xfrm>
            <a:off x="1681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2" name="Picture 26" descr="http://t0.gstatic.com/images?q=tbn:ANd9GcT-Sc4yLL8sgxUnMdITTcHqScpo3cR7uqZilUCgn8LBn4WDqols"/>
          <p:cNvPicPr/>
          <p:nvPr/>
        </p:nvPicPr>
        <p:blipFill>
          <a:blip r:embed="rId1"/>
          <a:stretch/>
        </p:blipFill>
        <p:spPr>
          <a:xfrm>
            <a:off x="928800" y="0"/>
            <a:ext cx="6357960" cy="6429240"/>
          </a:xfrm>
          <a:prstGeom prst="rect">
            <a:avLst/>
          </a:prstGeom>
          <a:ln w="0">
            <a:noFill/>
          </a:ln>
        </p:spPr>
      </p:pic>
      <p:sp>
        <p:nvSpPr>
          <p:cNvPr id="563" name="TextBox 10"/>
          <p:cNvSpPr/>
          <p:nvPr/>
        </p:nvSpPr>
        <p:spPr>
          <a:xfrm>
            <a:off x="7572240" y="1571760"/>
            <a:ext cx="1000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</a:rPr>
              <a:t>Н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</a:rPr>
              <a:t>А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</a:rPr>
              <a:t>С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</a:rPr>
              <a:t>Т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</a:rPr>
              <a:t>Р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</a:rPr>
              <a:t>О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</a:rPr>
              <a:t>Е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</a:rPr>
              <a:t>Н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</a:rPr>
              <a:t>И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 Black"/>
              </a:rPr>
              <a:t>Е</a:t>
            </a: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Box 1"/>
          <p:cNvSpPr/>
          <p:nvPr/>
        </p:nvSpPr>
        <p:spPr>
          <a:xfrm>
            <a:off x="285840" y="428760"/>
            <a:ext cx="82868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Ситуация 2</a:t>
            </a:r>
            <a:endParaRPr b="0" i="1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вой друг-одноклассник попросил у тебя тетрадь на выходные и испачкал её. Учитель в понедельник решил проверить  тетрадь. Предположите возможное развитие событий. Как себя поведёшь  ты? Твой друг? Учитель?</a:t>
            </a:r>
            <a:endParaRPr b="0" i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88" name="Picture 4" descr="http://t0.gstatic.com/images?q=tbn:ANd9GcTMqrMWOctKi6FVBaVnuo9Jv2Iquwmp1pE5zNr10yj_5iv36ZDzVg"/>
          <p:cNvPicPr/>
          <p:nvPr/>
        </p:nvPicPr>
        <p:blipFill>
          <a:blip r:embed="rId1"/>
          <a:stretch/>
        </p:blipFill>
        <p:spPr>
          <a:xfrm>
            <a:off x="6072120" y="4905360"/>
            <a:ext cx="2343240" cy="1952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Box 1"/>
          <p:cNvSpPr/>
          <p:nvPr/>
        </p:nvSpPr>
        <p:spPr>
          <a:xfrm>
            <a:off x="428760" y="285840"/>
            <a:ext cx="8215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Ситуация 3</a:t>
            </a:r>
            <a:endParaRPr b="0" i="1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вои родители запрещают тебе дружить  с мальчиком (девочкой),  потому что их семья не очень обеспеченная. Что скажешь ты в защиту своего друга или согласишься с мнением родителей?</a:t>
            </a:r>
            <a:endParaRPr b="0" i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0" name="Picture 4" descr="http://t2.gstatic.com/images?q=tbn:ANd9GcRIpFsreZwkSP8L8UJDMavv1xs3O_AJhhNuVpe_iljPMGqaZOap"/>
          <p:cNvPicPr/>
          <p:nvPr/>
        </p:nvPicPr>
        <p:blipFill>
          <a:blip r:embed="rId1"/>
          <a:stretch/>
        </p:blipFill>
        <p:spPr>
          <a:xfrm>
            <a:off x="507204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Box 1"/>
          <p:cNvSpPr/>
          <p:nvPr/>
        </p:nvSpPr>
        <p:spPr>
          <a:xfrm>
            <a:off x="428760" y="857160"/>
            <a:ext cx="8072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Ситуация  4</a:t>
            </a:r>
            <a:endParaRPr b="0" i="1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вой одноклассник взял у тебя поиграть игру (почитать книгу) и не отдаёт уже месяц. Стоит ли напомнить  ему о долге или лучше промолчать?</a:t>
            </a:r>
            <a:endParaRPr b="0" i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2" name="Picture 4" descr="http://t2.gstatic.com/images?q=tbn:ANd9GcSRjPQXTxSuOz11SsILEH7FHvU7YrnD3p41FVGlEBabFO5oz5QuzA"/>
          <p:cNvPicPr/>
          <p:nvPr/>
        </p:nvPicPr>
        <p:blipFill>
          <a:blip r:embed="rId1"/>
          <a:stretch/>
        </p:blipFill>
        <p:spPr>
          <a:xfrm>
            <a:off x="5143680" y="4143240"/>
            <a:ext cx="2238120" cy="20480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4" descr="детская дружб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4" name="Прямоугольник 4"/>
          <p:cNvSpPr/>
          <p:nvPr/>
        </p:nvSpPr>
        <p:spPr>
          <a:xfrm>
            <a:off x="1071720" y="2643120"/>
            <a:ext cx="7143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5" name="Прямоугольник 4"/>
          <p:cNvSpPr/>
          <p:nvPr/>
        </p:nvSpPr>
        <p:spPr>
          <a:xfrm>
            <a:off x="900000" y="2492280"/>
            <a:ext cx="714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 Black"/>
              </a:rPr>
              <a:t>Игра «Какой ты?»</a:t>
            </a:r>
            <a:endParaRPr b="0" i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ircl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457200" y="47628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Constantia"/>
              </a:rPr>
              <a:t>Какой ты дом</a:t>
            </a:r>
            <a:r>
              <a:rPr b="1" i="1" lang="ru-RU" sz="3600" spc="-1" strike="noStrike">
                <a:solidFill>
                  <a:srgbClr val="0000cc"/>
                </a:solidFill>
                <a:latin typeface="Arial"/>
              </a:rPr>
              <a:t>а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Constantia"/>
              </a:rPr>
              <a:t>Младший братишка сломал твою игрушку…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 Black"/>
              </a:rPr>
              <a:t>  </a:t>
            </a:r>
            <a:r>
              <a:rPr b="0" lang="ru-RU" sz="2600" spc="-1" strike="noStrike">
                <a:solidFill>
                  <a:srgbClr val="ff0000"/>
                </a:solidFill>
                <a:latin typeface="Arial Black"/>
              </a:rPr>
              <a:t>1) Ты его прощаешь, он сделал это ненарочно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Arial Black"/>
              </a:rPr>
              <a:t>  </a:t>
            </a:r>
            <a:r>
              <a:rPr b="0" lang="ru-RU" sz="2600" spc="-1" strike="noStrike">
                <a:solidFill>
                  <a:srgbClr val="0c7e4a"/>
                </a:solidFill>
                <a:latin typeface="Arial Black"/>
              </a:rPr>
              <a:t>2)Ты ударишь его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97" name="Picture 2" descr="http://t1.gstatic.com/images?q=tbn:ANd9GcQIf_-y_9KyMo-9c9UBkA11K9AOPl_gaZedXFJheRS8ZZwc5J2MWA"/>
          <p:cNvPicPr/>
          <p:nvPr/>
        </p:nvPicPr>
        <p:blipFill>
          <a:blip r:embed="rId1"/>
          <a:stretch/>
        </p:blipFill>
        <p:spPr>
          <a:xfrm>
            <a:off x="5786280" y="4286160"/>
            <a:ext cx="2457720" cy="18669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1000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1000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1000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1000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Constantia"/>
              </a:rPr>
              <a:t>Какой ты дом</a:t>
            </a:r>
            <a:r>
              <a:rPr b="1" i="1" lang="ru-RU" sz="3600" spc="-1" strike="noStrike">
                <a:solidFill>
                  <a:srgbClr val="0000cc"/>
                </a:solidFill>
                <a:latin typeface="Arial"/>
              </a:rPr>
              <a:t>а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Constantia"/>
              </a:rPr>
              <a:t>Ты поссорился со своей сестрой…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700200" y="2643120"/>
            <a:ext cx="844380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 Black"/>
              </a:rPr>
              <a:t>  </a:t>
            </a:r>
            <a:r>
              <a:rPr b="0" lang="ru-RU" sz="2600" spc="-1" strike="noStrike">
                <a:solidFill>
                  <a:srgbClr val="ff0000"/>
                </a:solidFill>
                <a:latin typeface="Arial Black"/>
              </a:rPr>
              <a:t>1)Ты попытаешься объясниться с ней…</a:t>
            </a:r>
            <a:endParaRPr b="0" i="1" lang="en-US" sz="26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 Black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cc"/>
                </a:solidFill>
                <a:latin typeface="Arial Black"/>
              </a:rPr>
              <a:t>  </a:t>
            </a:r>
            <a:r>
              <a:rPr b="0" lang="ru-RU" sz="2600" spc="-1" strike="noStrike">
                <a:solidFill>
                  <a:srgbClr val="0c7e4a"/>
                </a:solidFill>
                <a:latin typeface="Arial Black"/>
              </a:rPr>
              <a:t>2)Ты обижаешься и мстишь ей за это…</a:t>
            </a:r>
            <a:endParaRPr b="0" i="1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0" name="Picture 2" descr="http://t2.gstatic.com/images?q=tbn:ANd9GcRvK1o5_NWgAREQLgFsn2fB23cdAHiPAO4f62kw-8ZlL0nJR8_7"/>
          <p:cNvPicPr/>
          <p:nvPr/>
        </p:nvPicPr>
        <p:blipFill>
          <a:blip r:embed="rId1"/>
          <a:stretch/>
        </p:blipFill>
        <p:spPr>
          <a:xfrm>
            <a:off x="4786200" y="4786200"/>
            <a:ext cx="2581560" cy="1371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1000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1000"/>
                                        <p:tgtEl>
                                          <p:spTgt spid="5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457200" y="42840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90000"/>
                </a:solidFill>
                <a:latin typeface="Constantia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Constantia"/>
              </a:rPr>
              <a:t>Как вы поступите в такой ситуации: Ты не согласен с кем-нибудь…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cc"/>
                </a:solidFill>
                <a:latin typeface="Arial Black"/>
              </a:rPr>
              <a:t>  </a:t>
            </a:r>
            <a:r>
              <a:rPr b="0" lang="ru-RU" sz="2600" spc="-1" strike="noStrike">
                <a:solidFill>
                  <a:srgbClr val="ff0000"/>
                </a:solidFill>
                <a:latin typeface="Arial Black"/>
              </a:rPr>
              <a:t>1)Ты все-таки слушаешь его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8880" indent="-578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c7e4a"/>
                </a:solidFill>
                <a:latin typeface="Arial Black"/>
              </a:rPr>
              <a:t>  </a:t>
            </a:r>
            <a:r>
              <a:rPr b="0" lang="ru-RU" sz="2600" spc="-1" strike="noStrike">
                <a:solidFill>
                  <a:srgbClr val="0c7e4a"/>
                </a:solidFill>
                <a:latin typeface="Arial Black"/>
              </a:rPr>
              <a:t>2)Ты не даешь ему говорить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2" name="Picture 2" descr="http://t1.gstatic.com/images?q=tbn:ANd9GcTRJBpdY-bo-esC5FcXHWhm52_5pPmXmrPB0-TJzN2hs_bNbDGg"/>
          <p:cNvPicPr/>
          <p:nvPr/>
        </p:nvPicPr>
        <p:blipFill>
          <a:blip r:embed="rId1"/>
          <a:stretch/>
        </p:blipFill>
        <p:spPr>
          <a:xfrm>
            <a:off x="4572000" y="4429080"/>
            <a:ext cx="3500280" cy="2143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10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" dur="10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" dur="1000"/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357120" y="78552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3600" spc="-1" strike="noStrike">
                <a:solidFill>
                  <a:srgbClr val="0000cc"/>
                </a:solidFill>
                <a:latin typeface="Constantia"/>
              </a:rPr>
              <a:t>Какой ты в школе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-542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3200" spc="-1" strike="noStrike">
                <a:solidFill>
                  <a:srgbClr val="0000cc"/>
                </a:solidFill>
                <a:latin typeface="Constantia"/>
              </a:rPr>
              <a:t>В классе учитель уже спросил тебя…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-5421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-5421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 Black"/>
              </a:rPr>
              <a:t>1)Тебе хочется ответить еще, ты будешь подскакивать на месте, говоря: «Спросите меня…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-5421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-5421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c7e4a"/>
                </a:solidFill>
                <a:latin typeface="Arial Black"/>
              </a:rPr>
              <a:t>2)Ты предоставишь другим возможность ответить…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-5421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42160" indent="-5421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cc"/>
                </a:solidFill>
                <a:latin typeface="Constantia"/>
              </a:rPr>
              <a:t>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AutoShape 2"/>
          <p:cNvSpPr/>
          <p:nvPr/>
        </p:nvSpPr>
        <p:spPr>
          <a:xfrm>
            <a:off x="1681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5" name="Picture 12" descr="http://t1.gstatic.com/images?q=tbn:ANd9GcQwyVLreMMGN9R5VSa6Q0a04zP7lV8BtNm7Gg1ebbxsv4YgBOZe8g"/>
          <p:cNvPicPr/>
          <p:nvPr/>
        </p:nvPicPr>
        <p:blipFill>
          <a:blip r:embed="rId1"/>
          <a:stretch/>
        </p:blipFill>
        <p:spPr>
          <a:xfrm>
            <a:off x="4714920" y="4786200"/>
            <a:ext cx="2143080" cy="16527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10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" dur="1000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" dur="1000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1000"/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457200" y="78588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3600" spc="-1" strike="noStrike">
                <a:solidFill>
                  <a:srgbClr val="0000cc"/>
                </a:solidFill>
                <a:latin typeface="Constantia"/>
              </a:rPr>
              <a:t>Какой ты дом</a:t>
            </a:r>
            <a:r>
              <a:rPr b="1" i="1" lang="ru-RU" sz="3600" spc="-1" strike="noStrike">
                <a:solidFill>
                  <a:srgbClr val="0000cc"/>
                </a:solidFill>
                <a:latin typeface="Arial"/>
              </a:rPr>
              <a:t>а?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-572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Constantia"/>
              </a:rPr>
              <a:t>Тебе не хочется идти на прогулку со своими родными…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-5727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-572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 Black"/>
              </a:rPr>
              <a:t>1)Ты устраиваешь истерику, чтобы не идти гулять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-572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2760" indent="-572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c7e4a"/>
                </a:solidFill>
                <a:latin typeface="Arial Black"/>
              </a:rPr>
              <a:t>2)Ты идешь с ними гулять, чтобы они были довольны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7" name="Picture 2" descr="http://t0.gstatic.com/images?q=tbn:ANd9GcRbEPkaNsSaqaDPTrJH_8RMQ083286yALV8c-2A9uwWte3ZXsj3"/>
          <p:cNvPicPr/>
          <p:nvPr/>
        </p:nvPicPr>
        <p:blipFill>
          <a:blip r:embed="rId1"/>
          <a:stretch/>
        </p:blipFill>
        <p:spPr>
          <a:xfrm>
            <a:off x="3714840" y="5429160"/>
            <a:ext cx="3981240" cy="1143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" dur="10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1000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1000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" dur="1000"/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-360" y="285480"/>
            <a:ext cx="50007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990000"/>
                </a:solidFill>
                <a:latin typeface="Arial Black"/>
              </a:rPr>
              <a:t>Толерантность –                   это способность человека терпимо относиться к тем, кто думает и поступает не так, как ты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9" name="Picture 24" descr="http://t0.gstatic.com/images?q=tbn:ANd9GcQ6dA9EcvFLTVHYUrpe4m7jNjckzZXcOLkhEWz2UcLO_BdW4gsbVA"/>
          <p:cNvPicPr/>
          <p:nvPr/>
        </p:nvPicPr>
        <p:blipFill>
          <a:blip r:embed="rId1"/>
          <a:stretch/>
        </p:blipFill>
        <p:spPr>
          <a:xfrm>
            <a:off x="5072040" y="928800"/>
            <a:ext cx="3714840" cy="47052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Box 1"/>
          <p:cNvSpPr/>
          <p:nvPr/>
        </p:nvSpPr>
        <p:spPr>
          <a:xfrm>
            <a:off x="1000080" y="207180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Т</a:t>
            </a:r>
            <a:r>
              <a:rPr b="1" lang="ru-RU" sz="5400" spc="-1" strike="noStrike">
                <a:solidFill>
                  <a:srgbClr val="0000cc"/>
                </a:solidFill>
                <a:latin typeface="Arial Black"/>
                <a:ea typeface="Times New Roman"/>
              </a:rPr>
              <a:t>О</a:t>
            </a:r>
            <a:r>
              <a:rPr b="1" lang="ru-RU" sz="5400" spc="-1" strike="noStrike">
                <a:solidFill>
                  <a:srgbClr val="387026"/>
                </a:solidFill>
                <a:latin typeface="Arial Black"/>
                <a:ea typeface="Times New Roman"/>
              </a:rPr>
              <a:t>Л</a:t>
            </a:r>
            <a:r>
              <a:rPr b="1" lang="ru-RU" sz="5400" spc="-1" strike="noStrike">
                <a:solidFill>
                  <a:srgbClr val="990099"/>
                </a:solidFill>
                <a:latin typeface="Arial Black"/>
                <a:ea typeface="Times New Roman"/>
              </a:rPr>
              <a:t>Е</a:t>
            </a:r>
            <a:r>
              <a:rPr b="1" lang="ru-RU" sz="5400" spc="-1" strike="noStrike">
                <a:solidFill>
                  <a:srgbClr val="0c9b74"/>
                </a:solidFill>
                <a:latin typeface="Arial Black"/>
                <a:ea typeface="Times New Roman"/>
              </a:rPr>
              <a:t>Р</a:t>
            </a:r>
            <a:r>
              <a:rPr b="1" lang="ru-RU" sz="5400" spc="-1" strike="noStrike">
                <a:solidFill>
                  <a:srgbClr val="cc9900"/>
                </a:solidFill>
                <a:latin typeface="Arial Black"/>
                <a:ea typeface="Times New Roman"/>
              </a:rPr>
              <a:t>А</a:t>
            </a:r>
            <a:r>
              <a:rPr b="1" lang="ru-RU" sz="5400" spc="-1" strike="noStrike">
                <a:solidFill>
                  <a:srgbClr val="663300"/>
                </a:solidFill>
                <a:latin typeface="Arial Black"/>
                <a:ea typeface="Times New Roman"/>
              </a:rPr>
              <a:t>Н</a:t>
            </a:r>
            <a:r>
              <a:rPr b="1" lang="ru-RU" sz="5400" spc="-1" strike="noStrike">
                <a:solidFill>
                  <a:srgbClr val="ff0066"/>
                </a:solidFill>
                <a:latin typeface="Arial Black"/>
                <a:ea typeface="Times New Roman"/>
              </a:rPr>
              <a:t>Т</a:t>
            </a:r>
            <a:r>
              <a:rPr b="1" lang="ru-RU" sz="5400" spc="-1" strike="noStrike">
                <a:solidFill>
                  <a:srgbClr val="7030a0"/>
                </a:solidFill>
                <a:latin typeface="Arial Black"/>
                <a:ea typeface="Times New Roman"/>
              </a:rPr>
              <a:t>Н</a:t>
            </a:r>
            <a:r>
              <a:rPr b="1" lang="ru-RU" sz="5400" spc="-1" strike="noStrike">
                <a:solidFill>
                  <a:srgbClr val="3333ff"/>
                </a:solidFill>
                <a:latin typeface="Arial Black"/>
                <a:ea typeface="Times New Roman"/>
              </a:rPr>
              <a:t>О</a:t>
            </a:r>
            <a:r>
              <a:rPr b="1" lang="ru-RU" sz="5400" spc="-1" strike="noStrike">
                <a:solidFill>
                  <a:srgbClr val="cc0099"/>
                </a:solidFill>
                <a:latin typeface="Arial Black"/>
                <a:ea typeface="Times New Roman"/>
              </a:rPr>
              <a:t>С</a:t>
            </a:r>
            <a:r>
              <a:rPr b="1" lang="ru-RU" sz="5400" spc="-1" strike="noStrike">
                <a:solidFill>
                  <a:srgbClr val="7030a0"/>
                </a:solidFill>
                <a:latin typeface="Arial Black"/>
                <a:ea typeface="Times New Roman"/>
              </a:rPr>
              <a:t>Т</a:t>
            </a:r>
            <a:r>
              <a:rPr b="1" lang="ru-RU" sz="5400" spc="-1" strike="noStrike">
                <a:solidFill>
                  <a:srgbClr val="a50021"/>
                </a:solidFill>
                <a:latin typeface="Arial Black"/>
                <a:ea typeface="Times New Roman"/>
              </a:rPr>
              <a:t>Ь</a:t>
            </a:r>
            <a:endParaRPr b="0" i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Rectangle 4" descr=""/>
          <p:cNvPicPr/>
          <p:nvPr/>
        </p:nvPicPr>
        <p:blipFill>
          <a:blip r:embed="rId1"/>
          <a:stretch/>
        </p:blipFill>
        <p:spPr>
          <a:xfrm>
            <a:off x="4498920" y="274680"/>
            <a:ext cx="4187880" cy="588816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6" descr="toler2"/>
          <p:cNvPicPr/>
          <p:nvPr/>
        </p:nvPicPr>
        <p:blipFill>
          <a:blip r:embed="rId2"/>
          <a:stretch/>
        </p:blipFill>
        <p:spPr>
          <a:xfrm>
            <a:off x="468360" y="0"/>
            <a:ext cx="8246880" cy="6858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457200" y="78552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0000"/>
                </a:solidFill>
                <a:latin typeface="Arial Black"/>
              </a:rPr>
              <a:t>Толерантность – это уважение к  другому!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13" name="Picture 22" descr="http://t2.gstatic.com/images?q=tbn:ANd9GcTSYM507VTk8r6xNLEM1oWS0oNSTSqtd9Jwyju23ofpj5q8U5SaoQ"/>
          <p:cNvPicPr/>
          <p:nvPr/>
        </p:nvPicPr>
        <p:blipFill>
          <a:blip r:embed="rId1"/>
          <a:stretch/>
        </p:blipFill>
        <p:spPr>
          <a:xfrm>
            <a:off x="1857240" y="2428920"/>
            <a:ext cx="4929480" cy="40003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Rectangle 4" descr=""/>
          <p:cNvPicPr/>
          <p:nvPr/>
        </p:nvPicPr>
        <p:blipFill>
          <a:blip r:embed="rId1"/>
          <a:stretch/>
        </p:blipFill>
        <p:spPr>
          <a:xfrm>
            <a:off x="3992400" y="360360"/>
            <a:ext cx="4694400" cy="6137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6" descr="toler3"/>
          <p:cNvPicPr/>
          <p:nvPr/>
        </p:nvPicPr>
        <p:blipFill>
          <a:blip r:embed="rId2"/>
          <a:stretch/>
        </p:blipFill>
        <p:spPr>
          <a:xfrm>
            <a:off x="1143000" y="214200"/>
            <a:ext cx="6858000" cy="6429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4" descr="clip_image001"/>
          <p:cNvPicPr/>
          <p:nvPr/>
        </p:nvPicPr>
        <p:blipFill>
          <a:blip r:embed="rId1"/>
          <a:stretch/>
        </p:blipFill>
        <p:spPr>
          <a:xfrm>
            <a:off x="1863720" y="333360"/>
            <a:ext cx="5280120" cy="5904000"/>
          </a:xfrm>
          <a:prstGeom prst="rect">
            <a:avLst/>
          </a:prstGeom>
          <a:ln w="0">
            <a:noFill/>
          </a:ln>
        </p:spPr>
      </p:pic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468360" y="530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А ЦЕНИТЕ ИХ 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ircl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4355640" y="285480"/>
            <a:ext cx="45370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Arial Black"/>
              </a:rPr>
              <a:t>Вы все разные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cc"/>
                </a:solidFill>
                <a:latin typeface="Arial Black"/>
              </a:rPr>
              <a:t>и в этом ваша самая большая ценность</a:t>
            </a:r>
            <a:r>
              <a:rPr b="0" lang="ru-RU" sz="2800" spc="-1" strike="noStrike">
                <a:solidFill>
                  <a:srgbClr val="0000cc"/>
                </a:solidFill>
                <a:latin typeface="Arial Black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Arial Black"/>
              </a:rPr>
              <a:t>Вы все разные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Arial Black"/>
              </a:rPr>
              <a:t>кто то любит читать, кто-то заниматься спортом, кто-то играет с собачкой, а кто-то разводит цветы, но нам хорошо вместе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 Black"/>
              </a:rPr>
              <a:t>      </a:t>
            </a:r>
            <a:r>
              <a:rPr b="1" lang="ru-RU" sz="2800" spc="-1" strike="noStrike">
                <a:solidFill>
                  <a:srgbClr val="0000cc"/>
                </a:solidFill>
                <a:latin typeface="Arial Black"/>
              </a:rPr>
              <a:t>Ты нам нужен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19" name="Picture 5" descr="toler4"/>
          <p:cNvPicPr/>
          <p:nvPr/>
        </p:nvPicPr>
        <p:blipFill>
          <a:blip r:embed="rId1"/>
          <a:stretch/>
        </p:blipFill>
        <p:spPr>
          <a:xfrm>
            <a:off x="395280" y="549360"/>
            <a:ext cx="4122720" cy="58546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7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0" dur="1000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3" dur="1000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22" name="Picture 4" descr="детская дружб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3" name="WordArt 5"/>
          <p:cNvSpPr txBox="1"/>
          <p:nvPr/>
        </p:nvSpPr>
        <p:spPr>
          <a:xfrm>
            <a:off x="2050920" y="333360"/>
            <a:ext cx="4753080" cy="4011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ета толерантности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24" name="Прямоугольник 5"/>
          <p:cNvSpPr/>
          <p:nvPr/>
        </p:nvSpPr>
        <p:spPr>
          <a:xfrm>
            <a:off x="1785960" y="2571840"/>
            <a:ext cx="6000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5" name="Rectangle 8"/>
          <p:cNvSpPr/>
          <p:nvPr/>
        </p:nvSpPr>
        <p:spPr>
          <a:xfrm>
            <a:off x="0" y="2852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990000"/>
                </a:solidFill>
                <a:latin typeface="Arial Black"/>
              </a:rPr>
              <a:t>Ребята, вы поняли, что такое толерантность?</a:t>
            </a:r>
            <a:r>
              <a:rPr b="1" i="1" lang="ru-RU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i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ircl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28" name="Picture 4" descr="детская дружб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9" name="WordArt 5"/>
          <p:cNvSpPr txBox="1"/>
          <p:nvPr/>
        </p:nvSpPr>
        <p:spPr>
          <a:xfrm>
            <a:off x="2050920" y="549360"/>
            <a:ext cx="4753080" cy="4011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ета толерантности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30" name="Прямоугольник 5"/>
          <p:cNvSpPr/>
          <p:nvPr/>
        </p:nvSpPr>
        <p:spPr>
          <a:xfrm>
            <a:off x="1785960" y="1197000"/>
            <a:ext cx="6000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Black"/>
              </a:rPr>
              <a:t>Уважение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Black"/>
              </a:rPr>
              <a:t>Доброта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Black"/>
              </a:rPr>
              <a:t>Сопереживание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Black"/>
              </a:rPr>
              <a:t>Дружба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Black"/>
              </a:rPr>
              <a:t>Понимание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Black"/>
              </a:rPr>
              <a:t>Поддержка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Black"/>
              </a:rPr>
              <a:t>Терпимость</a:t>
            </a:r>
            <a:endParaRPr b="0" i="1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ircl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6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33" name="Picture 4" descr="детская дружб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4" name="WordArt 5"/>
          <p:cNvSpPr txBox="1"/>
          <p:nvPr/>
        </p:nvSpPr>
        <p:spPr>
          <a:xfrm>
            <a:off x="2195640" y="907920"/>
            <a:ext cx="4752720" cy="4011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ета толерантности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35" name="Rectangle 6"/>
          <p:cNvSpPr/>
          <p:nvPr/>
        </p:nvSpPr>
        <p:spPr>
          <a:xfrm>
            <a:off x="1619280" y="1628640"/>
            <a:ext cx="626580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Ребята, я надеюсь, </a:t>
            </a:r>
            <a:endParaRPr b="0" i="1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что вы будете терпимее </a:t>
            </a:r>
            <a:endParaRPr b="0" i="1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тноситься друг к другу.</a:t>
            </a:r>
            <a:r>
              <a:rPr b="0" i="1" lang="ru-RU" sz="40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i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6" name="WordArt 7"/>
          <p:cNvSpPr txBox="1"/>
          <p:nvPr/>
        </p:nvSpPr>
        <p:spPr>
          <a:xfrm>
            <a:off x="1403280" y="4643280"/>
            <a:ext cx="662472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дьте толерантны!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ircl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"/>
          <p:cNvPicPr/>
          <p:nvPr/>
        </p:nvPicPr>
        <p:blipFill>
          <a:blip r:embed="rId1"/>
          <a:stretch/>
        </p:blipFill>
        <p:spPr>
          <a:xfrm>
            <a:off x="826920" y="617400"/>
            <a:ext cx="7705800" cy="5784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6" presetSubtype="21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0" dur="1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7" name="Picture 4" descr="детская дружб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8" name="WordArt 5"/>
          <p:cNvSpPr txBox="1"/>
          <p:nvPr/>
        </p:nvSpPr>
        <p:spPr>
          <a:xfrm>
            <a:off x="428760" y="928800"/>
            <a:ext cx="8501040" cy="357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488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ета толерантности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69" name="TextBox 6"/>
          <p:cNvSpPr/>
          <p:nvPr/>
        </p:nvSpPr>
        <p:spPr>
          <a:xfrm>
            <a:off x="1643040" y="1285920"/>
            <a:ext cx="6643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 Black"/>
            </a:endParaRPr>
          </a:p>
          <a:p>
            <a:pPr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cc"/>
                </a:solidFill>
                <a:uFillTx/>
                <a:latin typeface="Arial Black"/>
              </a:rPr>
              <a:t>ТОЛЕРАНТНОСТЬ</a:t>
            </a:r>
            <a:r>
              <a:rPr b="0" i="1" lang="ru-RU" sz="2400" spc="-1" strike="noStrike">
                <a:solidFill>
                  <a:srgbClr val="0000cc"/>
                </a:solidFill>
                <a:latin typeface="Arial Black"/>
              </a:rPr>
              <a:t> – УВАЖЕНИЕ, ПРИНЯТИЕ ЛЮДЕЙ, КАКИМИ БЫ ОТЛИЧНЫМИ ОТ НАС ОНИ НЕ БЫЛИ. </a:t>
            </a:r>
            <a:endParaRPr b="0" i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Arial Black"/>
              </a:rPr>
              <a:t>Люди разные, это нужно понимать и принимать. </a:t>
            </a:r>
            <a:endParaRPr b="0" i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buClr>
                <a:srgbClr val="00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 Black"/>
              </a:rPr>
              <a:t>Человек имеет право быть ДРУГИМ!!</a:t>
            </a:r>
            <a:endParaRPr b="0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72" name="Picture 4" descr="детская дружб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3" name="Заголовок 1"/>
          <p:cNvSpPr/>
          <p:nvPr/>
        </p:nvSpPr>
        <p:spPr>
          <a:xfrm>
            <a:off x="468360" y="1484280"/>
            <a:ext cx="82296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cc0000"/>
                </a:solidFill>
                <a:latin typeface="Verdana"/>
              </a:rPr>
              <a:t>ТОЛЕРАНТНОСТЬ –</a:t>
            </a:r>
            <a:r>
              <a:rPr b="1" lang="ru-RU" sz="4500" spc="-1" strike="noStrike">
                <a:solidFill>
                  <a:srgbClr val="0000cc"/>
                </a:solidFill>
                <a:latin typeface="Arial Black"/>
              </a:rPr>
              <a:t> </a:t>
            </a:r>
            <a:br>
              <a:rPr sz="4500"/>
            </a:br>
            <a:r>
              <a:rPr b="1" i="1" lang="ru-RU" sz="4500" spc="-1" strike="noStrike">
                <a:solidFill>
                  <a:srgbClr val="0000cc"/>
                </a:solidFill>
                <a:latin typeface="Arial"/>
              </a:rPr>
              <a:t>это уважение, принятие и понимание многообразия мира.</a:t>
            </a:r>
            <a:endParaRPr b="0" i="1" lang="en-US" sz="45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ircl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75" name="Picture 4" descr="детская дружб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2"/>
          <p:cNvSpPr/>
          <p:nvPr/>
        </p:nvSpPr>
        <p:spPr>
          <a:xfrm>
            <a:off x="900000" y="3068640"/>
            <a:ext cx="7344000" cy="14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Georgia"/>
              </a:rPr>
              <a:t>»</a:t>
            </a:r>
            <a:endParaRPr b="0" i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7" name="Прямоугольник 8"/>
          <p:cNvSpPr/>
          <p:nvPr/>
        </p:nvSpPr>
        <p:spPr>
          <a:xfrm>
            <a:off x="0" y="500040"/>
            <a:ext cx="82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cc"/>
                </a:solidFill>
                <a:latin typeface="Arial Black"/>
              </a:rPr>
              <a:t>       </a:t>
            </a:r>
            <a:r>
              <a:rPr b="0" i="1" lang="ru-RU" sz="4000" spc="-1" strike="noStrike">
                <a:solidFill>
                  <a:srgbClr val="0000cc"/>
                </a:solidFill>
                <a:latin typeface="Arial Black"/>
              </a:rPr>
              <a:t>История толерантности</a:t>
            </a:r>
            <a:endParaRPr b="0" i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8" name="Прямоугольник 9"/>
          <p:cNvSpPr/>
          <p:nvPr/>
        </p:nvSpPr>
        <p:spPr>
          <a:xfrm>
            <a:off x="571680" y="1357200"/>
            <a:ext cx="8072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Arial Black"/>
              </a:rPr>
              <a:t>На рубеже 18-19 веков во Франции жил некто </a:t>
            </a:r>
            <a:r>
              <a:rPr b="1" i="1" lang="ru-RU" sz="2400" spc="-1" strike="noStrike">
                <a:solidFill>
                  <a:srgbClr val="0000cc"/>
                </a:solidFill>
                <a:latin typeface="Arial Black"/>
              </a:rPr>
              <a:t>Талейран Перигор</a:t>
            </a:r>
            <a:r>
              <a:rPr b="0" i="1" lang="ru-RU" sz="2400" spc="-1" strike="noStrike">
                <a:solidFill>
                  <a:srgbClr val="0000cc"/>
                </a:solidFill>
                <a:latin typeface="Arial Black"/>
              </a:rPr>
              <a:t>, князь. Он отличался тем, что при разных правительствах оставался министром иностранных дел. Его особый талант был в том, что он умел учитывать настроения окружающих, уважать их, решать проблему, ища различные оптимальные(т.е. удобные для всех) выходы из сложившейся ситуации</a:t>
            </a:r>
            <a:endParaRPr b="0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79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Что такое пазлы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580" name="Picture 4" descr="C:\Documents and Settings\user.ASUS\Мои документы\Мои рисунки\Организатор клипов (Microsoft)\j0299203.wmf"/>
          <p:cNvPicPr/>
          <p:nvPr/>
        </p:nvPicPr>
        <p:blipFill>
          <a:blip r:embed="rId1"/>
          <a:stretch/>
        </p:blipFill>
        <p:spPr>
          <a:xfrm>
            <a:off x="357120" y="1071720"/>
            <a:ext cx="8429760" cy="55004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C:\Documents and Settings\user.ASUS\Мои документы\Мои рисунки\Организатор клипов (Microsoft)\j0299723.wmf"/>
          <p:cNvPicPr/>
          <p:nvPr/>
        </p:nvPicPr>
        <p:blipFill>
          <a:blip r:embed="rId1"/>
          <a:stretch/>
        </p:blipFill>
        <p:spPr>
          <a:xfrm>
            <a:off x="500040" y="357120"/>
            <a:ext cx="7786800" cy="60008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Rectangle 5" descr=""/>
          <p:cNvPicPr/>
          <p:nvPr/>
        </p:nvPicPr>
        <p:blipFill>
          <a:blip r:embed="rId1"/>
          <a:stretch/>
        </p:blipFill>
        <p:spPr>
          <a:xfrm>
            <a:off x="324000" y="274680"/>
            <a:ext cx="8362800" cy="2084400"/>
          </a:xfrm>
          <a:prstGeom prst="rect">
            <a:avLst/>
          </a:prstGeom>
          <a:ln w="0">
            <a:noFill/>
          </a:ln>
        </p:spPr>
      </p:pic>
      <p:sp>
        <p:nvSpPr>
          <p:cNvPr id="583" name="TextBox 3"/>
          <p:cNvSpPr/>
          <p:nvPr/>
        </p:nvSpPr>
        <p:spPr>
          <a:xfrm>
            <a:off x="1000080" y="64296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 Black"/>
              </a:rPr>
              <a:t>Динамическая минутка  «Приветствие»</a:t>
            </a:r>
            <a:endParaRPr b="0" i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84" name="Picture 20" descr="http://t3.gstatic.com/images?q=tbn:ANd9GcSXPc_WQcPQP1pGPk-m1e2Gow0InN9VXpUUZVPKvoSdXVkqAiJgWg"/>
          <p:cNvPicPr/>
          <p:nvPr/>
        </p:nvPicPr>
        <p:blipFill>
          <a:blip r:embed="rId2"/>
          <a:stretch/>
        </p:blipFill>
        <p:spPr>
          <a:xfrm>
            <a:off x="714240" y="1571760"/>
            <a:ext cx="7715520" cy="49291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Box 2"/>
          <p:cNvSpPr/>
          <p:nvPr/>
        </p:nvSpPr>
        <p:spPr>
          <a:xfrm>
            <a:off x="571680" y="357120"/>
            <a:ext cx="74293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Ситуация  1 </a:t>
            </a:r>
            <a:endParaRPr b="0" i="1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класс приходит новенький ученик. В первые два дня он успевает получить  три  «2». Кто-то говорит, что он «неумеха»,не будем с ним дружить!» Твои  действия.</a:t>
            </a:r>
            <a:endParaRPr b="0" i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86" name="Picture 6" descr="http://t3.gstatic.com/images?q=tbn:ANd9GcTs6NwLUo3iy9dq_gAhUWsJOqeTXSAUA6otpe8_j0IGMfyYhVisxQ"/>
          <p:cNvPicPr/>
          <p:nvPr/>
        </p:nvPicPr>
        <p:blipFill>
          <a:blip r:embed="rId1"/>
          <a:stretch/>
        </p:blipFill>
        <p:spPr>
          <a:xfrm>
            <a:off x="4786200" y="4714920"/>
            <a:ext cx="2867040" cy="15904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6:59:20Z</dcterms:created>
  <dc:creator>Lyda</dc:creator>
  <dc:description/>
  <dc:language>en-US</dc:language>
  <cp:lastModifiedBy>123</cp:lastModifiedBy>
  <dcterms:modified xsi:type="dcterms:W3CDTF">2013-11-17T10:03:29Z</dcterms:modified>
  <cp:revision>115</cp:revision>
  <dc:subject/>
  <dc:title>Беседа о толерантности  для учащихся 1-2 класса.</dc:title>
</cp:coreProperties>
</file>