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5304-2385-4A9B-BAA5-E6FFD9E10A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69B2-79A1-442A-9A27-1DFBBCAF5E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275A-8FB7-4D30-A38E-277E5DC7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3EF-72DC-40A6-B7C1-C58A9282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D407-05DB-401D-A689-5783B508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832-04C3-4934-BA71-96C8A508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9A72-9735-44F4-8229-16360A29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9C09-0303-44E0-869B-3C700BFC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BB69-428B-4890-9227-3E967DA2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D8FF-A5E4-4E85-A56C-C682BC25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E068-14CA-4197-A353-D55F9D0E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6EF5-7531-40EC-AD41-B3A1A0FD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739A-825E-482F-9C6A-818BCB23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8CE8-AE39-4EC1-A950-66B6C2D2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F539-DEF9-4C58-99D1-53EF930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ADD3-4B23-4366-A129-701A34B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8CB8-D7FA-48F1-818E-030C0874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684BA-A036-418F-996F-6D51D1B0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D17E-B639-4D99-BA7C-773751D6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715-B699-44BB-AD71-C3CEB847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7018-3DAF-40E9-963F-6C463EFA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0B8-BADA-470E-9A19-DA45D244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E8F-9297-49B1-AD8C-CBE38410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C52-5E60-479D-B962-F78234F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F7A-251B-47C0-A76D-DEC459D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24B-E67F-4746-98FA-DE30784B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EC36-AB9F-4248-B5AC-E5DDF978C5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5A2B-3304-475E-83DB-81FEC8E34D6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642960"/>
            <a:ext cx="7772400" cy="29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БЕЗНАДЗОРНОСТЬ И ПРАВОНАРУШЕНИЯ ПОДРОСТК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051280" y="5300640"/>
            <a:ext cx="62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нина Ирина Александр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ОУ «СШ № 102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. Нижний Новгор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E:\bg_head.bmp"/>
          <p:cNvPicPr/>
          <p:nvPr/>
        </p:nvPicPr>
        <p:blipFill>
          <a:blip r:embed="rId1"/>
          <a:stretch/>
        </p:blipFill>
        <p:spPr>
          <a:xfrm>
            <a:off x="955800" y="2852640"/>
            <a:ext cx="7296120" cy="2357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2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9" nodeType="after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6" nodeType="after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23" nodeType="after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9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30" nodeType="after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38512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-360"/>
            <a:ext cx="85215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надзорность и беспризорность являются серьезными криминогенными фактор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борьбу с ними в РФ направлен ФЗ "Об основах системы профилактики безнадзорности и правонарушений несовершеннолетних" от 24 июня 1999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3528720" cy="3084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422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ческая справ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11280" y="1557360"/>
            <a:ext cx="800712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ая волна беспризорности начала подниматься уже в 1916-1917 годах, когда около двух миллионов Российских мужчин осталось на полях битвы в Европе и многие семьи были не в состоянии прокормить своих де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7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560" y="333000"/>
            <a:ext cx="858348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так как в то время население 80% было сельское, то подростков отправляли на заработки в гор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тни тысяч малолетних горожан обживали чердаки и подвалы, добывая пропитание попрошайничеством, воровство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i?id=123916438&amp;tov=0"/>
          <p:cNvPicPr/>
          <p:nvPr/>
        </p:nvPicPr>
        <p:blipFill>
          <a:blip r:embed="rId1"/>
          <a:stretch/>
        </p:blipFill>
        <p:spPr>
          <a:xfrm>
            <a:off x="4356000" y="3606840"/>
            <a:ext cx="3816360" cy="28796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9280" y="260280"/>
            <a:ext cx="72612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лько во второй половине двадцатых годов стали создаваться детские приемники, детские дома и колонии для малолетних преступ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29 году был предпринят трехлетний план ликвидации беспризорничества в ССС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6012000" y="2759040"/>
            <a:ext cx="2736720" cy="388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755640" y="1268280"/>
            <a:ext cx="74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ая волна. 1943-1950 го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йна, разорившая большую часть европейской территории России, оставила без крова 24 миллиона челове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7000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68840"/>
            <a:ext cx="8385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7720" y="928440"/>
            <a:ext cx="8007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шей стране на сегодняшний день 5 000 000  беспризорников  -  только официально (столько же было после гражданской войны в начале века) - это почти 3.5% населения стр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авляющее большинство этих детей вовлечено в криминал, наркоманию, порнографию и проституцию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7000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4a"/>
                </a:solidFill>
                <a:latin typeface="Arial Black"/>
              </a:rPr>
              <a:t>Причины преступле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работиц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ежные затруд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альная распуще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зкий уровень жиз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знаказан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рьба за власт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лные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7000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Заголовок 1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632800" cy="155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324000" y="907920"/>
            <a:ext cx="8640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600" spc="-1" strike="noStrike">
                <a:solidFill>
                  <a:srgbClr val="ffffff"/>
                </a:solidFill>
                <a:latin typeface="Arial"/>
              </a:rPr>
              <a:t>— </a:t>
            </a:r>
            <a:r>
              <a:rPr b="0" lang="eu-ES" sz="3600" spc="-1" strike="noStrike">
                <a:solidFill>
                  <a:srgbClr val="ffffff"/>
                </a:solidFill>
                <a:latin typeface="Arial"/>
              </a:rPr>
              <a:t>это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u-ES" sz="3600" spc="-1" strike="noStrike">
                <a:solidFill>
                  <a:srgbClr val="ffffff"/>
                </a:solidFill>
                <a:latin typeface="Arial"/>
              </a:rPr>
              <a:t>устранение, нейтрализация негативных обстоятельств,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600" spc="-1" strike="noStrike">
                <a:solidFill>
                  <a:srgbClr val="ffffff"/>
                </a:solidFill>
                <a:latin typeface="Arial"/>
              </a:rPr>
              <a:t>использование, стимулирование позитивных процессов социальной жизни обществ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ведение определенной работы с семьями, находящимися в социально-опасном положени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684360" y="577800"/>
            <a:ext cx="7488000" cy="553248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1" presetSubtype="1" repeatCount="100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8385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606744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75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7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Эпиграф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Спросят, как перейти жизнь, отвечайте: как по струне бездну – красиво, бережно и стремительно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.Рери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1" descr="image695"/>
          <p:cNvPicPr/>
          <p:nvPr/>
        </p:nvPicPr>
        <p:blipFill>
          <a:blip r:embed="rId1"/>
          <a:stretch/>
        </p:blipFill>
        <p:spPr>
          <a:xfrm>
            <a:off x="1038240" y="3500280"/>
            <a:ext cx="3600360" cy="27990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l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ктуальность проблем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разным подсчетам, в нашей стране количество беспризорников составляет от 2 до 5 млн. челове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данным Генеральной прокуратуры РФ сейчас в России насчитывается два миллиона беспризор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7000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Содержимое 3" descr="1116468_20081114154316.jpg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54291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еступления совершаю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ные де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ростки из неблагополучных сем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зкий уровень познавательной деятель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инирующие отрицательные качества (лень, агрессивност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ушается психика, умственная отстал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189000"/>
            <a:ext cx="800712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ческий потенциал представляет собой главное богатство любого государ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это богатство гибнет. Чего можно ждать от детей, которые выросли в подвалах и на чердаках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1619280" y="3484440"/>
            <a:ext cx="6053040" cy="3227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wipe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539640" y="47628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у их сможет научить улиц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ем они станут, достигнув совершеннолетия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2517840" y="1916280"/>
            <a:ext cx="4646520" cy="4582800"/>
          </a:xfrm>
          <a:prstGeom prst="rect">
            <a:avLst/>
          </a:prstGeom>
          <a:ln w="0">
            <a:noFill/>
          </a:ln>
        </p:spPr>
      </p:pic>
    </p:spTree>
  </p:cSld>
  <p:transition advTm="7000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2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25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еспризор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2111040"/>
            <a:ext cx="80071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особое социальное положение несовершеннолетнего, характеризующееся  отсутствием постоянного места жительства (бездомностью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000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Безнадзорност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628280"/>
            <a:ext cx="8007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альное положение несовершеннолетнего, контроль, за поведением которого отсутствует вследствие неисполнения обязанностей по его воспитанию, обучению и (или) содержанию родителей или законных представителей либо должностных лиц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7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5T16:48:41Z</dcterms:created>
  <dc:creator>МОУ СОШ №17</dc:creator>
  <dc:description/>
  <dc:language>en-US</dc:language>
  <cp:lastModifiedBy>123</cp:lastModifiedBy>
  <dcterms:modified xsi:type="dcterms:W3CDTF">2013-11-17T09:43:07Z</dcterms:modified>
  <cp:revision>23</cp:revision>
  <dc:subject/>
  <dc:title>БЕЗНАДЗОРНОСТЬ И ПРАВОНАРУШЕНИЯ ПОДРОСТКОВ</dc:title>
</cp:coreProperties>
</file>